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D27-EF10-43A3-940D-87631043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577-3232-4ABA-A439-8AC7CA5F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40D-FFA8-4CB3-8E0D-A9D5CDA9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1CB-2BB8-42FE-B604-9E0DCAEC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982-D8C4-4B27-98A0-0DB078DC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ADB-B249-4776-AB20-0263E077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32E-6532-43FA-BBC5-367E8DDF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969-5506-4150-B5B1-16DEAFA2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2C7-1B3C-4A85-BEF8-CAD7056A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46F-352A-4A97-A0AE-3F715FD6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487-8C3E-476A-98E0-4D201784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11E-8BF2-4F20-B2C2-C96FE902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7BC9-75B3-499B-A755-4527D03AF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2" name="untitl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irl Before a Mirror by Pablo Picasso made in 1932 this painting explains how a woman truly  fell about her self on the i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Henri Matisse is a painting of three women that are abstracted and have a lack of detail using geometric shapes and basic col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David Salle has a few shifts of focuses the first Thing that is noticed is the blue faces then the people behind them and then the other scenarios on either the left or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Andy Warhol is a shift of focus because each new square has a slightly different patters with contrasting col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is a picture of a woman by kooning portrayed as masculine and hard loo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81" name="Kooning_woman_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is another picture done by Kooning  portraying another woman in a distorted from that is not tradit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84" name="450px-De_Kooning_sculp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a sculptor done by Kooning that shows a woman sitting on a bench which is very distorted and goes against traditional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87" name="jackson-pollock-m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Jackson Pollock can be interrupted many different ways and people can see different things in the pain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90" name="pollockJ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Jackson Pollock may just look like a bunch of paint lines randomly splattered on a canvas but different people interrupt it different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93" name="Jackson_Pollock_Galaxy_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by Jackson Pollock is very creative in a way that you never see the same thing twice. Each time you look at it there is a good chance you will see something n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45" name="Dora_Maar_Au_Cha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Dora Maar au Chat, 1941 by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Pablo Picasso it’s a picture of one of his love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48" name="463px-The_Scre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e scream by Edvard M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It represents anguish despair and melancholy fee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1" name="440px-Picasso_Portrait_of_Daniel-Henry_Kahnweiler_19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Portrait of Daniel-Henry Kahnweiler, 1910 by Picasso  this picture is what he believe what would have became of us if Kahnweiler had no busines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4" name="CRI_696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is a painting of the Eiffel Tower using Cubist fragmentation to describe the sensations of depth, motion, and harmony  achieved through color effects and a of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57" name="CRI_1509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icture by  </a:t>
            </a:r>
            <a:r>
              <a:rPr b="1" lang="en-US" sz="3200" spc="-1" strike="noStrike">
                <a:solidFill>
                  <a:srgbClr val="ff00ff"/>
                </a:solidFill>
                <a:latin typeface="inherit"/>
              </a:rPr>
              <a:t>Lyubov Popova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represents how crazy the world is and when somebody need help their often not heard or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icture by </a:t>
            </a:r>
            <a:r>
              <a:rPr b="1" lang="en-US" sz="3200" spc="-1" strike="noStrike">
                <a:solidFill>
                  <a:srgbClr val="ff00ff"/>
                </a:solidFill>
                <a:latin typeface="inherit"/>
              </a:rPr>
              <a:t> Jean Fautrier represents the people that were held hostage during the holoca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ainting  by Picas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hows an old gaunt man on a monochromatic palette with  flattened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is picture by Picasso shows an poor family in Barcelona they were part of the socio-economic undercl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1:03:02Z</dcterms:created>
  <dc:creator>Brandon</dc:creator>
  <dc:description/>
  <dc:language>en-US</dc:language>
  <cp:lastModifiedBy>Brandon</cp:lastModifiedBy>
  <dcterms:modified xsi:type="dcterms:W3CDTF">2009-06-11T20:03:58Z</dcterms:modified>
  <cp:revision>15</cp:revision>
  <dc:subject/>
  <dc:title>PowerPoint Presentation</dc:title>
</cp:coreProperties>
</file>